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841F-4A7F-4740-8E70-64979F88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407-32E9-4AE0-969A-BAA754DD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066-41FF-46DA-876E-E945EA0C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674-9DB0-4D48-A323-B192E972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A0F6-6ABD-4DA8-A6C3-E9B386C3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EFD5-867C-4868-9BCE-0FB250D9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75EF-BF27-4264-980D-BBE68B3F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B6F0-F122-4C07-BB85-B707788F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4CAA-B70E-41F3-B90A-8845D522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60B9-0B20-48DB-A7E7-525843A7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897F-A6A3-4A43-9054-700B0290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4066-89D6-40B8-80D5-79B48567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7E9A-F707-40D4-916C-85A67BCF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5DE0-5BC1-4115-A2FD-73A3121F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2198-3A4C-4CE6-9998-0C1A22ED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6C66-57A5-4F00-9BD8-25ADEF5C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84B1-C928-4E0C-8271-330AD73E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14C-FA30-420A-91BB-AFFE2197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FD02-93B5-4C17-9A92-C62FE794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2E4-09FA-435B-92C3-515D1823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DCA-6F97-4539-985E-4F07A853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C781-6445-4AAA-9B79-E4B1880C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6F7-E658-46DE-897E-8FFC5589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EA0-9ED9-4BC1-8284-4C7A7282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241D-9525-48AD-B092-9DF1235616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9BE6-6C08-4051-A44B-1FF6D739F6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Ancient Symbols and Secret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eroglyphics: Egyptian writing (picture writ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from 3100 BC to AD 1100 (longer than any other writing in the worl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52578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hieroglyphics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057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osetta Sto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10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ne found in Egypt in 179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ined message written in 3 languages, including ancient Greek and hieroglyph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an Champollion used the stone to decipher hierogly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857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d of Old Kingd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ld Kingdom lasted for over 90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k pharaohs could not make fighting princes obey them, so the kingdom broke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iddle Kingd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ted 2050-1650 B.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raoh Amenemnes reunited Egypt, built a protective wall, and helped troops conquer part of the Sud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pharaohs built temples, small pyramids, and f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9:29:38Z</dcterms:created>
  <dc:creator>erin.hendricks</dc:creator>
  <dc:description/>
  <dc:language>en-US</dc:language>
  <cp:lastModifiedBy>erin.hendricks</cp:lastModifiedBy>
  <dcterms:modified xsi:type="dcterms:W3CDTF">2011-09-19T19:37:34Z</dcterms:modified>
  <cp:revision>3</cp:revision>
  <dc:subject/>
  <dc:title>Ancient Symbols and Secrets</dc:title>
</cp:coreProperties>
</file>